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21E-5038-4F93-A72E-A4D77C43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566-66BA-4EE9-B285-BAC8827E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1EFA-2E07-4C50-8589-14C2713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7D3D4-CDCE-4F95-9738-24750BA4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D504-C44D-474A-9044-CAB3A04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E2733-8EB8-432C-BE5B-6F46ED6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11513-F24D-4CF3-8519-4F2E663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7A801-F8CE-42F5-8447-1017834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EC3C-DC00-45CE-8B66-14549894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F8862-9A20-47A1-9833-34A401E1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E2B86-5ED3-4811-A52D-32788A88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0D94D-609A-4E20-8F04-BEB3011B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1BC-CA6F-4871-AC7D-DE76FEA4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754B2-B772-4F48-BE0F-FF76BC6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374AF-5922-4A13-845C-C5E19A9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E8E0-6CF5-408F-8A29-0547E675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381A7-C3A2-448A-A161-DF690239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24969-DFE4-4A51-A74D-5ADFEA9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68E07-18FB-49D2-AA75-BE3D0BA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BF9A0-ED00-4D08-893D-7AE577C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D71F-14C6-4355-B0D6-34024FA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2281A-5625-4734-858C-4110EDFD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6F031-A317-4D19-BB71-5BA44AB4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D07-1CA8-4CC6-A7C0-59508E91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A22ED-5E41-4D3A-B336-B995C078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8365-22D9-4162-8484-0E6F6C62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1483-CD00-492D-B1A0-9CAE3FA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D93B2-C613-48CF-AA38-62B9383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66DF3-3B7A-4F96-9BAA-BFBDC24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0411-16CE-4BD2-8F06-7B4EA6B9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E2A53-1EB3-4334-90FF-5FDE95DE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DC28-CCE6-4AD6-B259-2CC4EE2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CE810-7D17-4C00-8831-9ABC134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6437-76FB-4DAF-976D-6A12B14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3D4F-648A-4FCE-AB0F-FEE33F98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37A86-77ED-44E8-8F4A-FD418B5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F7E5C-D63C-47BF-B9E7-278508B8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6895-9582-4766-B9E0-BF850E00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3461-EB6F-4C42-9783-9DCDD14D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7A70E-0D3A-4881-98C8-EF1318C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1119D-288E-4E6E-AAF6-309FD9D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94FDB-6A91-456A-A1CB-6E29946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27B8C-4E82-4821-AE06-E6C71F5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1902-4FB8-4AED-80BE-2C56AC43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EBA37-CFAA-43DB-875F-EC0B022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A5B3-3CC9-499B-8F65-DE545A4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97398-E4DE-47CB-AADB-2F5B994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248C-7315-4D6F-867C-1F40ACD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4BCDB-4A21-4409-A9BD-8D9DA908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17A85-263F-4276-B1E9-BB8BC08F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06BB5-5EFD-4A63-BF73-ADC3E7C0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1C986-2CF6-4FDB-A13B-0571B783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95A7F-4C1C-42CA-8C25-215CFEE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C3E72-3391-4E3C-8330-026E1E1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E0BE3-7698-4F1C-AD28-3FB5291C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DE2D7-C75F-472D-9165-B8B4CD66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EE51-EC76-4AE6-B495-3BC630CE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140B8-E029-4D0A-8C66-F068023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61FF1-310B-4F96-B912-D01C5F0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E1C0B-118D-4D6F-BE36-168F227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BA8ED-AA58-4A78-97B3-5E78FAC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6E514-17F6-4873-BFC9-A033BE3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86758-D50B-4403-8EB4-08277F19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F0A24-1869-40C1-9A04-8AC8B5CD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7C339-C045-40FE-9DE3-80B3319D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CDA9F-FDE9-4C4E-B925-76D14D1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CB44B-15D1-4D53-9E67-1DD27F91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ACE3-3872-412F-9BC7-29DC82F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41DB6-830D-4DF4-AF4F-3952518E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8E31F-ECF0-4D4B-A378-5186295E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32AF2-4D9F-427D-8DA9-4592A7A3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0F8B7-2EBD-48DC-AE2A-DF32369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5C0B1-E2CF-4E5C-BC66-B88E9A6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6087E-E04A-44DF-85B9-0682C09A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53774-C867-46A0-B7E6-A594707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0B976-A810-44F5-A1BA-89DEF5A1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4C5A7-46A2-4CC0-9036-0875B4E6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7F12B-12DD-4EAE-B9D9-51B7685E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DF0-8C73-4349-956F-E4712C0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C66F3-EE3D-4020-946F-81EFEF7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89095-4217-4520-A03E-C780A85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21F2C-78B3-4AAA-9912-6D5ED35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7E870-E1DC-4974-BCEF-6996D578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B247F-BD75-4167-9501-539E501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BB6EC-30F1-4CFB-AD96-112A99E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9EB84-82FC-426B-AFD6-5D7DAE4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34968-8E7D-405E-A719-F265CE8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81B67-0E4A-4A18-B0AE-3C616E16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E2F32-6A89-4180-9C35-07E2544F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486-EE7C-48B3-B6F5-0DE784B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997E9-A83E-45F2-B1E7-43FE845F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236D4-3757-4D4E-AFE6-5581A6C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FF12A-1FA5-46A0-9805-857D4110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D59D4-7C20-4DCF-93CE-2B0F5E0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A2912-89D0-45BC-858B-48651B16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0C18F-3CDD-4DDF-8BE5-9453FB9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AC554-7CA8-4B04-8812-5C3AD3D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6B010-BCFA-4545-A0DD-A046270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EF0E0-98AC-461C-BD78-83B9BC9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EDDBD-B6C9-4294-A6D5-0D81899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DC1C-7D47-447F-8E34-FFF3E0A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A44AB-A14C-4D17-9FBE-3C8B895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4B61B-BD8E-4537-A0BB-A422ECF2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2A9EC-ABD6-48F4-9979-C489B9E5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66789-2235-4988-B863-9F7F19D0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A777E-EEC6-4CD7-B910-67324E7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B1E8C-C129-4F67-8B37-A0496F82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6B5FA-3B49-4BEF-A93D-91B96A2F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6242B-9A81-4E0F-B110-0B49979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E9529-68AB-4BB1-99B3-F3FDABCC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91132-FD31-4082-97D6-6FFAA13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732-4396-44FE-AAFD-49A6F1D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2FC9-FEA1-477F-B254-E062C97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081FF-68FB-487A-BA93-966869A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56E06-59E1-4AC1-83BB-326C782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BADA9-5775-4342-A538-359B6C9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49D4E-CA11-4E5C-8C2B-0DD8C4AD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BE4AE-2709-446C-A8D1-22BA03EE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2BD3F-CD21-4026-B0CE-C96825C9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58EF0-D425-4993-BA3C-D965FD1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BEA96-75BF-4CFF-8585-59A0ADB9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4CD78-C3D0-4B0C-A9DE-6EE3778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7F25B-5E52-41F0-B3BA-4F4E4A8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A45-53C5-4287-8407-4F5ACF2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3EEC4-6DC7-40B5-BF92-58882D6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20480-4A62-466A-83D3-D7DE77E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76485-2ED4-4F9D-A46C-DF3C01C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3E95B-D12A-4853-84EC-EEA4E0D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606CB-F8C3-4F90-ABD7-2822E3D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1328E-6452-4EF1-8357-6C1CFBB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C4516-B753-4727-A617-55F71499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B8963-4178-448F-AB81-CA6AC130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6DD00-5818-41BA-8D6B-963DC813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1BBB0-6D2F-4C86-A6D5-33A04CD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78A2-0C76-4B6A-9FBF-1487210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067CF-F853-4A4C-B777-5774BDC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7E805-F0EE-492B-8D02-D9A49C2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35B49-B8E3-478B-98D2-88AF67F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BFAC4-F9F9-41C9-B971-DD027D1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4D48E-6EBE-48B2-B791-2646455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5C4C1-0B71-46BE-B609-C8E8898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2FC8E-7B46-407A-8A74-92FD05A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5B8DC-5B6D-4DCD-A489-6BE1070E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2FEC7-76AF-480B-BE40-B83732A9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ABEEA-CD75-425F-B979-70A5CC8E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127C-9F41-4F41-8E4F-4217712B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3A287-8CA5-4E13-9ED4-2FCDB2B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B4F33-A42B-433D-9E59-D7F4951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C18DD2-050D-4177-984F-8E1ECA9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9AE8C-96C9-4114-9868-5A842BD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20242-BA98-4371-A816-DDF5144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61DAE-D8F0-4CF5-994D-79002FC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376C0-38FA-478D-8877-D2C9D1D2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0689F-5CDE-4D3A-A0EB-181F512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B9B08-9FF0-448E-B6DF-8C931A9E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71D02-0E59-463E-AC05-11275D87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815-5EE6-4812-9B67-BDF203F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DD2F8-33C7-469D-A9B2-C866124A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94162-58B7-48C3-A006-FA01B598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A8C7D-C604-42FE-9299-4515393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95C77-7635-4EC9-B48C-E507880D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C2AD7-B20D-41F7-86EA-541C07C2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8E3EC-BAA1-4A4C-BBB4-21632C0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D6A8E-B680-45B2-B07F-F874FE5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DCA52-4E4F-4088-B900-E98C7BC5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6D176-758A-4080-A1C1-3F9299B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6C058-0ACE-44E6-93AE-94C8351D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1AD0-3A8A-4C10-B824-0DCFBDDE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9B2F5-726A-42CC-93FE-FD15A119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3F283-4346-47A0-8A9B-4FE708A9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C2433-4EF3-4177-AA4B-BAA6F028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EEAA-C22F-4489-AE9D-0E4901E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67DE-AC4A-4DDF-B744-AFBCF42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519A-915D-4889-832E-67A5FFDA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C459-C3A2-426A-926F-D9A1AAD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682-BECB-48B4-80BA-DA05D29D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B721-C309-43E6-84F5-C6AC848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93B5-7064-4E73-8E1F-CF88CB9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9E4B-2E98-41B3-BCDA-F3826FC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4D08-862A-4A0A-A9C5-273A48A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5AB0-E241-45F7-BAFF-A61A7BB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2A72-3FE5-40F5-A6A1-66CFAA9E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B719-B9BA-4F0B-A518-69FA52DB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51C2-9009-49BE-8F71-5FB97176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B8DE-6813-4CB7-A53D-0294705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4B9A-F2A5-4C60-8120-46FFEFC3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6AB-FA58-46EE-9DD4-DB2ADB8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A465-AD8C-46EF-B44F-FFF916B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0760-3845-40C6-9360-D0195DEF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3B62-0618-4D35-8669-93C2148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7FF8-F826-4418-829C-8DAC705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55E4-1377-4C64-A2F2-7346BE5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E019-2BD3-4ECB-ABB2-5EC176C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DEB1-EFD4-435B-9C50-9328936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259E-F9CE-482E-8389-16207E72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224A-E2BB-4B8C-B6E8-1196017A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8227-6836-4382-9386-87679415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B54-F307-4048-9A7B-114B309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4C48-EABA-44E8-85F0-7533C20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9B36-375F-4BB2-A990-8E8D7F7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5785-995B-4DF7-BB2C-E69DA5B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A70D-3451-4BDC-ADC5-E14C28AD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2BBE-A308-4B3B-BABC-264878E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2F7A-7B07-48A2-9D95-010E92A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DE889-7DFE-4AA2-8A21-C333692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80C1-848E-43F3-BC6A-E307A98B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055D-A707-4247-8A7E-925E9B50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86C1-3E4E-4D37-BC94-97326AF3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4AE-0E8B-48A1-BDCC-C8087ECA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A6B5-76D4-4D38-9DD9-05B52FA0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4B21-713F-4E76-8DE1-C28DE652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5280-D795-4029-B2CD-DD786F0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D8DA-BAA4-4AD2-8AC6-D37521D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15A0-346B-4957-81B8-ED41EE30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9C53-4426-485B-AA4A-6371E9A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181A-EA82-44A6-8BD1-38C41CE2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CA7B-4127-4590-BABC-A07E031A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00A59-FAEA-441B-A5AD-393D8ED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4070-C5C5-4C2E-930A-21D16AF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B2E-446B-4F9E-A2ED-399238E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C5DA7-42EC-4514-90D1-E1A61CFF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6C94-ECFB-4BE7-AED0-A6CA8BAE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AD26-BEFB-43C0-B264-F111BF3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A5FD-CF74-4B36-BA90-4E893E48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D4A5-1378-494E-AEDC-081BDE5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3FF7-AB4D-418B-A2BF-D2ED813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74AD-DDCE-4E21-9D3E-7A96286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B8D0-1802-446D-97A3-85D91FA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971E-A818-4A57-A98A-0E2533B9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83048-FCC8-42A0-8407-6DF7F45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ECB-DD01-4A89-8259-9E5F115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76E3-A0CC-474B-B896-811CC7C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4AAE-22B1-4928-B85F-8F056E84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3A93-4BCF-4914-9B01-256CE234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771B-87AF-4882-A29E-B1683601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3016-1040-4003-B101-C18B070E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36AEE-A502-412C-816A-CB9C7E4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37B14-F3DD-4C4E-A0D8-9013222A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0998-8955-4F67-86F0-8756890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36DB-682D-4ACE-9A91-182179A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D2AF-F259-42B6-8F2A-8A7B3F89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4C4-324E-45DD-A9B1-49EB6D6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0963-C409-49C2-9D2D-F1AF453F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5191D-ADF3-430E-842A-43B1626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14CA5-166E-4235-AF74-147D5AD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D7B22-6619-475F-A0B9-CE47502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DD63-3D9B-4E18-BF87-2A61432E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0DF6D-5DC8-427A-B464-4FDFF77C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E7C3B-4403-411A-947B-D2A44C3A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AC76-ADA0-412F-8ACC-246D5184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7679A-3589-4DBC-AAFB-96CF226F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9A850-8FCC-4D76-9478-CBA5D97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462-A58B-4F69-B9C2-8CA6AE30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064-0E8A-4BEE-B7A3-9016681BB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9AE6-94A0-40C6-A242-B06F61501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BC94-8D83-4CB8-BECC-877891E72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BEC-7629-4E29-A94D-331DDD727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B846-F4AA-4C02-A521-A20B8A769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E742-7BDC-4138-9A15-4084CBE4F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BF7-FDB6-4434-B2D8-8BD66D369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CB1-3DCC-4474-AA33-62E5C1128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C58-1E3C-44DB-A3A3-EE8535DF2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84C-5A97-4580-8CF0-DCEE9A7DE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257-BEF5-42B2-B6A5-A2704CFD2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775-2EFE-4C5E-8FDC-8D78925315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1E0-5438-4D02-BFBC-6F7D2A19B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40ED-5E27-48C1-8D8C-20D31A0E5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F06-E3D9-4DDE-9AAD-15FCE113F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D5AF-961D-4BA0-AAC1-DC415E789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1A04-0D4F-43B0-969C-336E70FE9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0E0-EFFB-4BC4-A9A8-47FFBC329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564-A7FD-4E84-A790-1C6AC6BE9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BF0-73C1-47A7-A380-21991D4C8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A87-4178-4687-92C7-43203E9EF5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FBA-3975-42B7-A5B8-5E0328373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862-02AE-4F69-BFB8-5CA01EB12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C01-9D2B-4616-9A50-2C2C21F0C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959A-E879-4511-A597-DB1C514895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7657-9F7B-477C-909C-9A91659F2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BAEB-673D-4E25-B1E5-D3EFD6A4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495-CD27-4F12-9006-639ACD02E9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7194-87B8-40BE-B22F-E0B8438E8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CC9B-0B17-49F7-8972-203081B9F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872-0CD1-4253-919F-6342BB6C9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B7C1-BB04-4315-A0E9-64760B987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29EA-34CE-48B7-98BB-6F16C7913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2EA-637B-44E7-92B4-13707E480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46DA-93C3-4B67-B8BA-59F84EFCE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9AA-D569-4ABE-89F2-7F99FCF65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6BA-398E-428B-B679-BBD3C7F90A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0A6-B504-4BD4-94BE-D8FBDC67B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475-8645-4C4E-A80A-486BF166E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57200" y="704880"/>
            <a:ext cx="8229600" cy="54482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357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286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29600" cy="38192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857160" y="4857840"/>
            <a:ext cx="4581720" cy="1390680"/>
          </a:xfrm>
          <a:prstGeom prst="rect">
            <a:avLst/>
          </a:prstGeom>
          <a:ln w="0">
            <a:noFill/>
          </a:ln>
        </p:spPr>
      </p:pic>
      <p:sp>
        <p:nvSpPr>
          <p:cNvPr id="1028" name="矩形 3"/>
          <p:cNvSpPr/>
          <p:nvPr/>
        </p:nvSpPr>
        <p:spPr>
          <a:xfrm>
            <a:off x="92880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2928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66560" y="1805040"/>
            <a:ext cx="8210880" cy="324792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85716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04720" y="1300320"/>
            <a:ext cx="8134560" cy="42573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3714840" y="1857240"/>
            <a:ext cx="1500120" cy="29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6286680" y="2786040"/>
            <a:ext cx="1500120" cy="291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6572160" y="3786120"/>
            <a:ext cx="12859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3571920" y="4714920"/>
            <a:ext cx="15001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71600" y="1276200"/>
            <a:ext cx="8200800" cy="43056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3500280" y="2286000"/>
            <a:ext cx="12859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5286240" y="2286000"/>
            <a:ext cx="128592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3143160" y="3714840"/>
            <a:ext cx="8575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4429080" y="3714840"/>
            <a:ext cx="8571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5929200" y="3714840"/>
            <a:ext cx="8575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1857240" y="5143680"/>
            <a:ext cx="8575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3286080" y="5143680"/>
            <a:ext cx="85716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4643280" y="5143680"/>
            <a:ext cx="8575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7072200" y="514368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95360" y="1990800"/>
            <a:ext cx="8153280" cy="287640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785960" y="2500200"/>
            <a:ext cx="10000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429000" y="2500200"/>
            <a:ext cx="8571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4857840" y="2500200"/>
            <a:ext cx="121428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2000160" y="392904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3500280" y="3929040"/>
            <a:ext cx="10717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7"/>
          <p:cNvSpPr/>
          <p:nvPr/>
        </p:nvSpPr>
        <p:spPr>
          <a:xfrm>
            <a:off x="5072040" y="3929040"/>
            <a:ext cx="10717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15480" cy="599148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4775040" y="2394000"/>
            <a:ext cx="1285920" cy="338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1511280" y="2892600"/>
            <a:ext cx="928800" cy="304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7072200" y="2857680"/>
            <a:ext cx="121464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1357200" y="385776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6"/>
          <p:cNvSpPr/>
          <p:nvPr/>
        </p:nvSpPr>
        <p:spPr>
          <a:xfrm>
            <a:off x="6215040" y="3857760"/>
            <a:ext cx="5716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"/>
          <p:cNvSpPr/>
          <p:nvPr/>
        </p:nvSpPr>
        <p:spPr>
          <a:xfrm>
            <a:off x="1346040" y="485460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8"/>
          <p:cNvSpPr/>
          <p:nvPr/>
        </p:nvSpPr>
        <p:spPr>
          <a:xfrm>
            <a:off x="7786800" y="4832280"/>
            <a:ext cx="92844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9"/>
          <p:cNvSpPr/>
          <p:nvPr/>
        </p:nvSpPr>
        <p:spPr>
          <a:xfrm>
            <a:off x="5715000" y="5286240"/>
            <a:ext cx="9288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0"/>
          <p:cNvSpPr/>
          <p:nvPr/>
        </p:nvSpPr>
        <p:spPr>
          <a:xfrm>
            <a:off x="6072120" y="5786280"/>
            <a:ext cx="785880" cy="30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1"/>
          <p:cNvSpPr/>
          <p:nvPr/>
        </p:nvSpPr>
        <p:spPr>
          <a:xfrm>
            <a:off x="3857760" y="6286680"/>
            <a:ext cx="9284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1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